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3BE-0FA7-42B5-86F7-ED15CE0C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6E6-51FD-4F4E-A17A-625E737A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F2B-6412-451B-A289-53C38B74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D76-EFDA-4A8F-AC8B-BC998028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0A65-5B20-4B9B-AF07-D1FFCFD6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A982-2E56-40AD-BE0E-8B964ABF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EDA8-BB43-487C-BFDD-BAB372DB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7B5-444A-4595-97A5-9186B238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E8C9-33B6-4D55-8D79-53037020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3F4A-A675-4299-87F7-B841698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2556-B713-4A6D-9D8B-C326881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67F-DBA2-45B7-B192-1715AF35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8F74-A84B-424F-BC6C-E984778A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CCB3-FAD6-410C-A2C5-B17B371E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F1BD-9600-4FAE-864D-ED8A362D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3315-CA25-432A-9436-27CA6FCA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6C52-A47E-499A-83BB-5E85124F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4C149-3C2D-4795-9AEB-C532955C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1E46-0290-469F-B730-9B266F07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FD62-82CE-4FAF-8DF4-49E3AED1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5A0E-2068-46A0-8E1D-48AE2AB4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41C2B-1579-44EC-A5C3-CD1C1D34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DEF-F11D-42AE-903A-4575CF5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2881-A23F-42B7-8982-ABAE5238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56C8-0CBB-4EA6-BBF3-3733B9B4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03CC-E1F0-4A05-9BF8-CDD6E5D5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C72A-592F-4712-81C1-01CB9472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54F6-CDA1-4187-8946-E0EF575B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159D-A143-4BD0-ADA4-C8139779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F4BA-E536-4D12-BAB8-896D9DDE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90BD-73EA-4378-88EE-E5ACB9DB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24E71-8836-4FD6-A22C-EF483C01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60314-C99D-4CEE-8E14-DFA32EBD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F76-B39C-4AB0-830E-B481B5DD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1EBE-7EA5-48DA-9617-8FD44530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D264-3740-41D7-973E-50D81F08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E55E-F532-4505-ABD0-7D885410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996D-72E6-499D-8638-48CD928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32A7-6AC1-4AEB-A37A-DE11A41E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44D7-B380-4DDD-8152-A5674F15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8856-E0B5-42BA-8DEF-B0622B50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B3B9-8B56-4884-82CA-AD67B13A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B3BC-A267-4806-80BA-A3974216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8AE03-470B-4926-9C11-81F74E4F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A27-5AFB-4CD8-A126-DEB2F16B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11831-645B-42DA-9D4D-1BE7D596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4724A-99B2-48E8-8996-74CE9F3C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B1E2-9A5A-47E2-BB4F-F05C9459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175A-412C-416F-82D7-FAF30F17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85A5-2816-4C15-A7BB-81CDEB82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9609E-55F9-439A-B67D-732F1CF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DA46-1563-45B5-B076-C30775B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3EBF-E850-4457-91E4-7DF214DC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48E4-D6CC-4FBB-A30F-573BA03D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70704-229D-4E71-9244-8B4BA789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C43-BDF4-4BB7-8AFC-53785A83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DCDFB-C59A-43B1-A3A7-EA25E1C8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330FE-95A5-4F75-BFC5-C32E05A0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B4FFE-705E-4289-BC66-D7AC1D59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932A-2E9C-4972-8CCF-AD4BCFAB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5221B-AD6E-4F0F-96C3-E975EE55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5361A-6A2F-4067-BC09-4B9E775F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B702F-26B1-48B2-8C33-FD2C07BD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B72C-DEB9-4F22-9D43-FED984D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7610-1199-49B3-AF84-158A9A77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BE377-1A27-44CB-ACCE-5493034F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0B7-399B-4824-8AF9-7DA8F29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86E57-4C2C-4A47-A4B7-FF3CC485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1FD0-78F9-4D73-803C-88E25BFF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C29A0-8D5A-4DF6-ADED-2B68A63F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B5755-7197-43E1-9E4F-0EDEE277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4564E-1D47-431F-97A7-31DEDE63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7A9B6-843B-4FA6-A7CF-9D38D65A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E0D82-DF82-425F-ACB0-73EA7735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4D64B-4C2F-4B03-ADDB-9CFD404C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0CF69-38A9-4851-AFF5-ADBF34DD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2E5A-EA89-440F-9511-92957414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EAB-6DC2-440B-82EE-6106BED8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39E34-69B8-4408-A14E-1F0C42FD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AB68C-6912-40E3-95EB-3600BA43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4B23-2762-4C01-96B2-A161F0C6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75BC7-64F3-4401-AF26-9F6C526E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ACFAE-F00F-466C-A5DB-5DE90E16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AE7-78BF-4ABF-A539-A80B5C1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C2C6-3CA6-4C79-831D-D8B96F5E678E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716B-4053-436A-A92F-60C2C6F155C2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5DE1-B4AA-4595-977A-401219C94B50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533D-8201-4DE5-B2BA-FAA991A54205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CDC9-8C53-4730-BC35-FCAC96E78317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1918-C723-42DA-AC71-F48C325C3AC1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C15-B116-4FC4-8586-AB4FA6EAE1A0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4200" y="585792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  <a:ea typeface="Calibri"/>
              </a:rPr>
              <a:t>  </a:t>
            </a:r>
            <a:r>
              <a:rPr b="0" i="1" lang="ru-RU" sz="1600" spc="-1" strike="noStrike">
                <a:solidFill>
                  <a:srgbClr val="06436b"/>
                </a:solidFill>
                <a:latin typeface="Arial"/>
                <a:ea typeface="Calibri"/>
              </a:rPr>
              <a:t>Учитель-логопед МКДОУ д/с № 15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6436b"/>
                </a:solidFill>
                <a:latin typeface="Arial"/>
                <a:ea typeface="Calibri"/>
              </a:rPr>
              <a:t>Е.В.Хмель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57160" y="1714680"/>
            <a:ext cx="7540560" cy="2714400"/>
          </a:xfrm>
          <a:prstGeom prst="rect">
            <a:avLst/>
          </a:prstGeom>
          <a:solidFill>
            <a:srgbClr val="f9f7f5"/>
          </a:solidFill>
          <a:ln w="28440">
            <a:solidFill>
              <a:srgbClr val="ade2f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ts val="4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Calibri"/>
              </a:rPr>
              <a:t>«Игры и упражнения для дошкольников на развитие межполушарных связей» 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Упражнения проводятся утром. </a:t>
            </a:r>
            <a:br>
              <a:rPr sz="22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Упражнения проводятся ежедневно. </a:t>
            </a:r>
            <a:br>
              <a:rPr sz="22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Упражнения проводятся в доброжелательной обстановке. </a:t>
            </a:r>
            <a:br>
              <a:rPr sz="22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От детей требуется точное выполнение движений и приемов.</a:t>
            </a:r>
            <a:br>
              <a:rPr sz="2200"/>
            </a:br>
            <a:r>
              <a:rPr b="0" lang="ru-RU" sz="2200" spc="-1" strike="noStrike">
                <a:solidFill>
                  <a:srgbClr val="052e65"/>
                </a:solidFill>
                <a:latin typeface="Candara"/>
              </a:rPr>
              <a:t>- Упражнения проводятся стоя или сидя за столом.</a:t>
            </a:r>
            <a:br>
              <a:rPr sz="2200"/>
            </a:br>
            <a:br>
              <a:rPr sz="1800"/>
            </a:br>
            <a:br>
              <a:rPr sz="16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66920" y="1071720"/>
            <a:ext cx="6418080" cy="130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Candara"/>
              </a:rPr>
              <a:t>Условия проведения кинезеологических упражнений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90480" y="2071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- Комплексы кинезиологической гимнастики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точечный массаж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растяжки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дыхательные упражнения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глазодвигательные упражнения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 - телесные упражнения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упражнения для развития мелкой моторики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упражнения на релаксацию</a:t>
            </a:r>
            <a:br>
              <a:rPr sz="2000"/>
            </a:b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 - массаж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28840" y="713880"/>
            <a:ext cx="641808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e65"/>
                </a:solidFill>
                <a:latin typeface="Arial Black"/>
              </a:rPr>
              <a:t>Методы и приемы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1. Мышечно-двигательного и координационного тренинга;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2. Развития воображения и ассоциативно образного мышления через вариативность методических пояснений и игровых услови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Пальчиковый игротренинг – один из видов с упражняющей функцией. 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Наряду с быстротой успешного освоения специальных знаний, умений и навыков(сенсомоторных качеств) у ребенка происходит развитие: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- эмоционального отношения к воспринимаемому материалу;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-  увлеченности и вовлеченности  в процесс деятельности;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 - свойств художественного мышления и творческого воображения;</a:t>
            </a:r>
            <a:br>
              <a:rPr sz="1600"/>
            </a:b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 - способности к общению, установлению положительного эмоционального контакта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66920" y="428760"/>
            <a:ext cx="641808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Candara"/>
              </a:rPr>
              <a:t>Занятия и игры направлены на решение следующих учебно-методических задач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90480" y="1999800"/>
            <a:ext cx="77724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66920" y="-360"/>
            <a:ext cx="6418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Arial Black"/>
              </a:rPr>
              <a:t>Кинезиологические упражнения, развивающие межполушарное взаимодействи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Candara"/>
              </a:rPr>
              <a:t>«Пальчики здороваются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1571760" y="2000160"/>
            <a:ext cx="2412720" cy="1447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1643040" y="3929040"/>
            <a:ext cx="2362320" cy="1511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3"/>
          <a:stretch/>
        </p:blipFill>
        <p:spPr>
          <a:xfrm>
            <a:off x="4786200" y="2000160"/>
            <a:ext cx="2324160" cy="1435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4"/>
          <a:stretch/>
        </p:blipFill>
        <p:spPr>
          <a:xfrm>
            <a:off x="4786200" y="3929040"/>
            <a:ext cx="236232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Зайчик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76440" y="2428920"/>
            <a:ext cx="38224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-й и 3-й пальцы выпрямлены и расположены в виде буквы У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-й, 4-й и 5-й  пальцы собраны в кула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4933800" y="1714680"/>
            <a:ext cx="3245040" cy="441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Колечко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42600" y="2499840"/>
            <a:ext cx="38228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очередно как можно быстрее перебирайте пальцы рук, соединяя в кольцо с большим пальцем последовательно указательный, средний и т.д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роба выполняется в прямом (от указательного пальца к мизинцу) и в обратном (от мизинца к указательному пальцу) порядке. Вначале упражнение выполняется каждой рукой отдельно, затем вместе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4938840" y="1928880"/>
            <a:ext cx="3235320" cy="4197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Собери помпоны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тие межполушарных связей, счет, цвет и еще  много полезного можно отработать с помощью этой простой игр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5" name="Picture 2" descr="C:\Users\Admin\Desktop\Новая папка\20200524_163359.jpg"/>
          <p:cNvPicPr/>
          <p:nvPr/>
        </p:nvPicPr>
        <p:blipFill>
          <a:blip r:embed="rId1"/>
          <a:stretch/>
        </p:blipFill>
        <p:spPr>
          <a:xfrm>
            <a:off x="4645080" y="2970360"/>
            <a:ext cx="38224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Собери фрукты в корзину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76440" y="1714680"/>
            <a:ext cx="3822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ебенку предлагается одновременно двумя руками  «сорвать» яблоки и четко ведя по дорожке, отнести в корзин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714240" y="3643200"/>
            <a:ext cx="2143440" cy="3005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C:\Users\Admin\Desktop\Новая папка\20200524_163546.jpg"/>
          <p:cNvPicPr/>
          <p:nvPr/>
        </p:nvPicPr>
        <p:blipFill>
          <a:blip r:embed="rId2"/>
          <a:stretch/>
        </p:blipFill>
        <p:spPr>
          <a:xfrm>
            <a:off x="2714760" y="314316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8" descr="C:\Users\Admin\AppData\Local\Microsoft\Windows\Temporary Internet Files\Content.Word\20200524_163604.jpg"/>
          <p:cNvPicPr/>
          <p:nvPr/>
        </p:nvPicPr>
        <p:blipFill>
          <a:blip r:embed="rId3"/>
          <a:stretch/>
        </p:blipFill>
        <p:spPr>
          <a:xfrm>
            <a:off x="4643280" y="3714840"/>
            <a:ext cx="2143440" cy="293040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0" descr="C:\Users\Admin\AppData\Local\Microsoft\Windows\Temporary Internet Files\Content.Word\20200524_163651.jpg"/>
          <p:cNvPicPr/>
          <p:nvPr/>
        </p:nvPicPr>
        <p:blipFill>
          <a:blip r:embed="rId4"/>
          <a:stretch/>
        </p:blipFill>
        <p:spPr>
          <a:xfrm>
            <a:off x="6643800" y="3000240"/>
            <a:ext cx="210168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Рисование крышечками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13880" y="1856880"/>
            <a:ext cx="3822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Ребенок ведет (двумя пальчиками одновременно)  крышечки по нарисованной траектории к указанному месту( можно как сверху вниз, так и снизу вверх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4" name="Содержимое 4" descr="C:\Users\Admin\AppData\Local\Microsoft\Windows\Temporary Internet Files\Content.Word\20200525_075349.jpg"/>
          <p:cNvPicPr/>
          <p:nvPr/>
        </p:nvPicPr>
        <p:blipFill>
          <a:blip r:embed="rId1"/>
          <a:stretch/>
        </p:blipFill>
        <p:spPr>
          <a:xfrm>
            <a:off x="1071720" y="3286080"/>
            <a:ext cx="2178000" cy="31971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C:\Users\Admin\AppData\Local\Microsoft\Windows\Temporary Internet Files\Content.Word\20200525_075224.jpg"/>
          <p:cNvPicPr/>
          <p:nvPr/>
        </p:nvPicPr>
        <p:blipFill>
          <a:blip r:embed="rId2"/>
          <a:stretch/>
        </p:blipFill>
        <p:spPr>
          <a:xfrm>
            <a:off x="3429000" y="2928960"/>
            <a:ext cx="2214720" cy="3000240"/>
          </a:xfrm>
          <a:prstGeom prst="rect">
            <a:avLst/>
          </a:prstGeom>
          <a:ln w="0">
            <a:noFill/>
          </a:ln>
        </p:spPr>
      </p:pic>
      <p:pic>
        <p:nvPicPr>
          <p:cNvPr id="386" name="Содержимое 6" descr="C:\Users\Admin\AppData\Local\Microsoft\Windows\Temporary Internet Files\Content.Word\20200525_075416.jpg"/>
          <p:cNvPicPr/>
          <p:nvPr/>
        </p:nvPicPr>
        <p:blipFill>
          <a:blip r:embed="rId3"/>
          <a:stretch/>
        </p:blipFill>
        <p:spPr>
          <a:xfrm>
            <a:off x="5929200" y="3286080"/>
            <a:ext cx="2357640" cy="3160800"/>
          </a:xfrm>
          <a:prstGeom prst="rect">
            <a:avLst/>
          </a:prstGeom>
          <a:ln w="0">
            <a:noFill/>
          </a:ln>
        </p:spPr>
      </p:pic>
      <p:pic>
        <p:nvPicPr>
          <p:cNvPr id="387" name="Содержимое 4" descr="C:\Users\Admin\AppData\Local\Microsoft\Windows\Temporary Internet Files\Content.Word\20200525_075349.jpg"/>
          <p:cNvPicPr/>
          <p:nvPr/>
        </p:nvPicPr>
        <p:blipFill>
          <a:blip r:embed="rId4"/>
          <a:stretch/>
        </p:blipFill>
        <p:spPr>
          <a:xfrm>
            <a:off x="1071720" y="3286080"/>
            <a:ext cx="217800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Говорящие ручки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76440" y="1500120"/>
            <a:ext cx="3822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восприятия поз пальцев ру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учить повторять позы и движения по карточкам, по подражанию, по словесной инструкции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Для детей постарше, запомнить цепочку поз и повторить по памяти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Каждая цепочка повторяется 3-4 раза с проговариванием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0" name="Рисунок 5" descr="C:\Users\Admin\Desktop\Новая папка\20200524_163847.jpg"/>
          <p:cNvPicPr/>
          <p:nvPr/>
        </p:nvPicPr>
        <p:blipFill>
          <a:blip r:embed="rId1"/>
          <a:stretch/>
        </p:blipFill>
        <p:spPr>
          <a:xfrm>
            <a:off x="1071720" y="407196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391" name="Содержимое 6" descr="C:\Users\Admin\Desktop\Новая папка\20200524_163906.jpg"/>
          <p:cNvPicPr/>
          <p:nvPr/>
        </p:nvPicPr>
        <p:blipFill>
          <a:blip r:embed="rId2"/>
          <a:stretch/>
        </p:blipFill>
        <p:spPr>
          <a:xfrm>
            <a:off x="5000760" y="1643040"/>
            <a:ext cx="3252600" cy="21384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7" descr="C:\Users\Admin\Desktop\Новая папка\20200524_163922.jpg"/>
          <p:cNvPicPr/>
          <p:nvPr/>
        </p:nvPicPr>
        <p:blipFill>
          <a:blip r:embed="rId3"/>
          <a:stretch/>
        </p:blipFill>
        <p:spPr>
          <a:xfrm>
            <a:off x="5072040" y="407196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«Из всех наслаждений, отпущенных человеку, самое изысканное – шевелить мозгами»</a:t>
            </a:r>
            <a:br>
              <a:rPr sz="2800"/>
            </a:b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Борис Акунин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5" descr="http://karapysik.ru/wp-content/uploads/2013/09/1083036398.jpg"/>
          <p:cNvPicPr/>
          <p:nvPr/>
        </p:nvPicPr>
        <p:blipFill>
          <a:blip r:embed="rId1"/>
          <a:stretch/>
        </p:blipFill>
        <p:spPr>
          <a:xfrm>
            <a:off x="2071800" y="2500200"/>
            <a:ext cx="52387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Говорящие чистоговорки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Игра с тактильным сопровождением и нейроподходом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Рекомендовано использовать на области кругов – пластилин. Нажимая на него, у ребенка усиливаются тактильные ощущения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Сначала вместе с педагогом проговариваем, затем ребенок самостоятельно проговаривает чистоговоркус опорой на картинку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5" name="Picture 2" descr="C:\Users\Admin\Desktop\Новая папка\20200524_164011.jpg"/>
          <p:cNvPicPr/>
          <p:nvPr/>
        </p:nvPicPr>
        <p:blipFill>
          <a:blip r:embed="rId1"/>
          <a:stretch/>
        </p:blipFill>
        <p:spPr>
          <a:xfrm>
            <a:off x="4645080" y="2970360"/>
            <a:ext cx="38224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«Зеркальное рисование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76440" y="2214360"/>
            <a:ext cx="38224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вуручные упражн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ебенку предлагается двумя руками одновременно обвести контур фигур, изображенных с правой и левой стороны листа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3889440" y="2571840"/>
            <a:ext cx="4889520" cy="3357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бязательное условие – передача положительных эмоций. При индивидуальной оценке нужно отметить активность, удачу, пусть даже маленькую, или просто хорошее настроение ребенка. А реакция на неудачи должна быть с надеждой на успех в последующих занятиях, с убеждением, что отчаиваться не стоит. Если активно работать, все получится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Важно закончить занятие так, чтобы дети ждали следующей встречи с вами. Но главное, о чем необходимо помнить, - занятие от начала до конца должно быть добрым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В конце занятия подводятся итоги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428920"/>
            <a:ext cx="7408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В. Буденая. Логопедическая гимнастика. Методическое пособие. Санкт-Петербург: «Детство-Пресс», 2001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В.Безруких. Леворукий ребенок в школе и дома. Екатеренбург, 2001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. Г. Визель. Мозг и феномены человеческой психики.-М., 1992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.Ю. Картушина. Логоритмические занятия в детском саду. М.: Сфера, 2003г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. В. Коноваленко. Развитие познавательной деятельности у детей от 10 до 14 лет. Москва, 1999 г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Е .А. Пожиленко. Волшебный мир звуков и слов. М.: Владос, 2001 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. С. Жукова, Е. В. Мастюкова, Т .Б. Филичева. Логопедия. Екатеренбург 2001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.Г. Парамонова. Как подготовить ребенка к школе. Изд. Дельта, 1997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.А.Поваляева. Справочник логопеда. Ростов-на-Дону.2001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.Л. Сиротюк. Коррекция развития интеллекта дошкольника. М, 2002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-1440" y="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052e65"/>
                </a:solidFill>
                <a:latin typeface="Arial"/>
                <a:ea typeface="Arial"/>
              </a:rPr>
              <a:t>СПАСИБО ЗА ВНИМАНИЕ!</a:t>
            </a: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5" name="Picture 2" descr="C:\Users\Библиомедиацентр\Desktop\временная папка\Рисунок1.jpg"/>
          <p:cNvPicPr/>
          <p:nvPr/>
        </p:nvPicPr>
        <p:blipFill>
          <a:blip r:embed="rId1"/>
          <a:stretch/>
        </p:blipFill>
        <p:spPr>
          <a:xfrm>
            <a:off x="2214720" y="3929040"/>
            <a:ext cx="4857480" cy="2573280"/>
          </a:xfrm>
          <a:prstGeom prst="rect">
            <a:avLst/>
          </a:prstGeom>
          <a:ln w="19080">
            <a:solidFill>
              <a:srgbClr val="052e65"/>
            </a:solidFill>
            <a:miter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1857240"/>
            <a:ext cx="7408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тие и гармонизация нервной системы ребенка, в целом, и деятельность мозговых структу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229600" cy="16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Arial Black"/>
                <a:ea typeface="Aharoni"/>
              </a:rPr>
              <a:t>Актуальность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6440" y="1714680"/>
            <a:ext cx="3822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овременные кинезиологические методики, в том числе американская гимнастика мозга Брэйн Джим, направлены на активизацию различных отделов коры головного мозга (больших полушарий), что позволяет развивать способности человека или корректировать проблемы в различных областях психики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5000760" y="1785960"/>
            <a:ext cx="341604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Arial Black"/>
              </a:rPr>
              <a:t>Цель:</a:t>
            </a:r>
            <a:r>
              <a:rPr b="0" lang="ru-RU" sz="2400" spc="-1" strike="noStrike">
                <a:solidFill>
                  <a:srgbClr val="031f43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31f43"/>
                </a:solidFill>
                <a:latin typeface="Candara"/>
              </a:rPr>
              <a:t>развитие межполушарного взаимодействия, способствующее активизации мыслительной </a:t>
            </a:r>
            <a:br>
              <a:rPr sz="2400"/>
            </a:br>
            <a:r>
              <a:rPr b="0" lang="ru-RU" sz="2400" spc="-1" strike="noStrike">
                <a:solidFill>
                  <a:srgbClr val="031f43"/>
                </a:solidFill>
                <a:latin typeface="Candara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76440" y="1785960"/>
            <a:ext cx="3822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Задач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ежполушарной специализаци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ежполушарного взаимодействия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ежполушарных связе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Синхронизация работы полушар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елкой моторик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способносте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памяти, внимания;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реч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Развитие мышления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Устранение дислекси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4749840" y="2214720"/>
            <a:ext cx="3537000" cy="42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Candara"/>
              </a:rPr>
              <a:t>Полушария мозга имеют разную функциональную специализацию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143680" cy="491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1785960"/>
            <a:ext cx="7408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логическое – аналитическое мышлени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Анализирует факты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брабатывает информацию последовательно  по этапа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беспечивает интересы индуктивного мышления (вначале осуществляется процесс анализа, а затем синтеза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брабатывает вербальную информацию: отвечает за языковые способности, контролирует речь, а также способности к чтению и письму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Запоминает стихотворные строки, факты, имена, даты и их написани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Понимает буквальный смысл только того,  слышим или читае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Планирует будуще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Контролирует движение правой половины тел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музыкальное образование, понимание смысла музыкальных произведений. Различение ритма музык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математические способности, рабату с числами, формулами, таблицам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планировани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Arial Black"/>
              </a:rPr>
              <a:t>Левое полушар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1356840"/>
            <a:ext cx="7408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образное мышление, пространственную ориентацию; позволяет ориентироваться на местности и составлять мозаичные картинки-головоломк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интуицию и интуитивную оценку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Может одновременно обрабатывать много разнообразной информации; способно рассматривать проблему в целом, не применяя анализа (параллельная обработка информации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реализует процессы дедуктивного мышления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брабатывает невербальную информацию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Запоминает образы, лица, картины, позы, голос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Способно понимать метафоры и результаты работы чужого воображения, чувство юмора. Воспринимает эмоциональную окраску речи, тембр, голоса, интонацию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риентируется в настояще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Контролирует движения левой половины тел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воображение, фантазии и мечты; художественное творчество и способности к изобразительному искусству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Отвечает за эмоциональные реакци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2e65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Arial Black"/>
              </a:rPr>
              <a:t>Правое полушар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Кинезиология </a:t>
            </a:r>
            <a:r>
              <a:rPr b="0" lang="ru-RU" sz="2400" spc="-1" strike="noStrike">
                <a:solidFill>
                  <a:srgbClr val="052e65"/>
                </a:solidFill>
                <a:latin typeface="Candara"/>
              </a:rPr>
              <a:t>– наука о развитии умственных способностей и физического здоровья через определенные двигательные упражнения.</a:t>
            </a:r>
            <a:br>
              <a:rPr sz="2400"/>
            </a:br>
            <a:r>
              <a:rPr b="0" lang="ru-RU" sz="2400" spc="-1" strike="noStrike">
                <a:solidFill>
                  <a:srgbClr val="052e65"/>
                </a:solidFill>
                <a:latin typeface="Candara"/>
              </a:rPr>
              <a:t>«Кинезиология» (греческое слово),</a:t>
            </a:r>
            <a:br>
              <a:rPr sz="2400"/>
            </a:br>
            <a:r>
              <a:rPr b="0" lang="ru-RU" sz="2400" spc="-1" strike="noStrike">
                <a:solidFill>
                  <a:srgbClr val="052e65"/>
                </a:solidFill>
                <a:latin typeface="Candara"/>
              </a:rPr>
              <a:t>«кинезис» – движение,</a:t>
            </a:r>
            <a:br>
              <a:rPr sz="2400"/>
            </a:br>
            <a:r>
              <a:rPr b="0" lang="ru-RU" sz="2400" spc="-1" strike="noStrike">
                <a:solidFill>
                  <a:srgbClr val="052e65"/>
                </a:solidFill>
                <a:latin typeface="Candara"/>
              </a:rPr>
              <a:t>«логос» – наука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6920" y="928800"/>
            <a:ext cx="64180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e65"/>
                </a:solidFill>
                <a:latin typeface="Arial Black"/>
              </a:rPr>
              <a:t>Что такое кинезиология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5:34:29Z</dcterms:created>
  <dc:creator>Библиомедиацентр</dc:creator>
  <dc:description/>
  <dc:language>en-US</dc:language>
  <cp:lastModifiedBy>Admin</cp:lastModifiedBy>
  <cp:lastPrinted>2012-06-26T12:35:24Z</cp:lastPrinted>
  <dcterms:modified xsi:type="dcterms:W3CDTF">2020-05-25T16:13:55Z</dcterms:modified>
  <cp:revision>284</cp:revision>
  <dc:subject/>
  <dc:title>Итоги аттестации педагогических работников системы образования в 2011-2012 учебном году и задачи на 2012-2013 учебный год</dc:title>
</cp:coreProperties>
</file>